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45B7-BEBF-47A2-8991-89E6B0114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overview- Sweden new school goals not being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udent taking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howing empathy and care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gin to speak ab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mentary programs that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overall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program not from Cfchildre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r 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y goal- help implement and stand aside- counselor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Keep high profile-Wrote letters to parents, etc. Had headmaster sig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wly updated materials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e of implementation- 1-2 day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comradery among peacemakers ( hat, t-shirt, away from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r 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onfli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tudents understand that conflict is neutral- it’s what we do with it that can lead to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listening vs he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body language-wife the diplomat study that as part of human relations training 80%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it visible by dealing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visibl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teacher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Second Step and bu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anti bully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grade- playground diplo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th grade- receive referral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mmunity service- 2nd Ste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classroom- 6,7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e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y/gir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nflicts (school vs social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mpathy- new stude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ac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playground/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sible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rules/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greed to 85% sol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- both parties must 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understanding of problem sometimes reve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ant to solve problem- suggest ideas that can be agre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friends it’s solved, often sides are made and the conflict exp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grade abbreviated for play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bout how we listen to someone actively and with respect and communicate clearly an with re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empathic is the key to the prevention of becoming a bully. If you understand how someone else might feel, you will not bully that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429-4FAD-4A45-8D0C-C8A3E181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2F4-98C5-4CA2-8856-740962EE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8A6-11D8-47C1-BE90-5B5CBE34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4B1-D046-42E3-8178-F1042965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4AB0-1625-4F7C-99FC-7D4DFD24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F4E6-4F0D-4BEB-96E0-5FE16CD2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8B3B-732B-40A2-8F2D-83FFC284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A820-B7DC-4871-A1D1-817AD9BB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4261-6A3E-40DA-A61B-FBA81524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5EF3-DDD4-41BA-ABC7-D8E6EB2E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601E-47E6-45F6-93E3-3875A033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096-0BB6-476E-BBFD-0AA28904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2735-558C-4F81-BA7D-81D2058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C8C9-EF42-4B77-BBD3-45CDF806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9C0F-03D6-41F9-9806-592E8E6D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8494-620F-4B51-BF34-4AAA1512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21EA-6C29-42F2-A932-447E2393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57E-7ADA-4D27-9AEF-A0EC0C44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C6A-69EF-434B-8A34-0578B0E9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B35-0AD4-4194-9D89-376735BF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184-724C-463A-B700-18FEA1AC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52A-BD5C-4B5F-A179-79494A2A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617-0AC4-483C-888C-4B42918A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73A-FB04-487C-8341-9B2250D9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6CF7-D21D-4957-8C5A-6533329FA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4CE4-9509-4EFF-9ECD-B726223D2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hyperlink" Target="mailto:aevidon@isl.edu.lv" TargetMode="External"/><Relationship Id="rId4" Type="http://schemas.openxmlformats.org/officeDocument/2006/relationships/hyperlink" Target="mailto:aevidon@isl.edu.lv" TargetMode="External"/><Relationship Id="rId5" Type="http://schemas.openxmlformats.org/officeDocument/2006/relationships/hyperlink" Target="mailto:aevidon@isl.edu.lv" TargetMode="External"/><Relationship Id="rId6" Type="http://schemas.openxmlformats.org/officeDocument/2006/relationships/hyperlink" Target="mailto:aevidon@isl.edu.lv" TargetMode="External"/><Relationship Id="rId7" Type="http://schemas.openxmlformats.org/officeDocument/2006/relationships/hyperlink" Target="mailto:aevidon@isl.edu.lv" TargetMode="External"/><Relationship Id="rId8" Type="http://schemas.openxmlformats.org/officeDocument/2006/relationships/slideLayout" Target="../slideLayouts/slideLayout14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76720" y="0"/>
            <a:ext cx="4352760" cy="371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eer Mediation-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tudents helping student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21333000">
            <a:off x="2268000" y="3573360"/>
            <a:ext cx="2422800" cy="3024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2880" y="4495320"/>
            <a:ext cx="3530880" cy="1676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sv-SE" sz="28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aevidon@isl</a:t>
            </a:r>
            <a:r>
              <a:rPr b="0" i="1" lang="sv-SE" sz="28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i="1" lang="sv-SE" sz="28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edu</a:t>
            </a:r>
            <a:r>
              <a:rPr b="0" i="1" lang="sv-SE" sz="2800" spc="-1" strike="noStrike" u="sng">
                <a:solidFill>
                  <a:srgbClr val="99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i="1" lang="sv-SE" sz="2800" spc="-1" strike="noStrike" u="sng">
                <a:solidFill>
                  <a:srgbClr val="99ccff"/>
                </a:solidFill>
                <a:uFillTx/>
                <a:latin typeface="Times New Roman"/>
                <a:hlinkClick r:id="rId7"/>
              </a:rPr>
              <a:t>lv</a:t>
            </a:r>
            <a:br>
              <a:rPr sz="2800"/>
            </a:br>
            <a:br>
              <a:rPr sz="2800"/>
            </a:b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artevidon@yahoo.com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Times New Roman"/>
              </a:rPr>
              <a:t>How is second step taught? </a:t>
            </a:r>
            <a:br>
              <a:rPr sz="3600"/>
            </a:br>
            <a:r>
              <a:rPr b="0" lang="sv-SE" sz="3600" spc="-1" strike="noStrike">
                <a:solidFill>
                  <a:srgbClr val="ffffff"/>
                </a:solidFill>
                <a:latin typeface="Times New Roman"/>
              </a:rPr>
              <a:t>Elementary School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The 11” x 17” photo lesson cards form the core of the program for Preschool—Grade 5 curricul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. Empathy Train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I. Impulse Cont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ll. Emotion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V Problem Solv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477120" y="3124080"/>
            <a:ext cx="19810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What elementary program looks like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. for teac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s to tea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on 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rm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ry and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tend and prac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ap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how lesson cards- practice l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19810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Times New Roman"/>
              </a:rPr>
              <a:t>Middle School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Second </a:t>
            </a: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Step,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MiddleSchool/Junior High lessons are found in grade level binders and are divided into five uni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. Empathy and Commun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I. Bullying Preven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ll. Emotion Manag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V. Problem Solving, decision making and goal set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V. Substance abuse preven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S program looks lik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ory s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bjectives, Lesson at a glance, supplies and equipment needed, lesson materials, lesson preparation, teaching notes, daily application of content, importance of lesson, lesson ou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sson scri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ities/role pl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VD/video usage modeling and supporting topics of conc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ity worksheets/home exten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400" spc="-1" strike="noStrike">
                <a:solidFill>
                  <a:srgbClr val="ffffff"/>
                </a:solidFill>
                <a:latin typeface="Times New Roman"/>
              </a:rPr>
              <a:t>gr. 8 lesson 6( Bullying Prevention: Labels, Stereotypes, Prejudice) di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Program Responsibilities 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people leave)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min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Build into school plan or position-  e.g. counse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Make high pri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Make pri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Make visible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ssemblies, poster display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00800" y="2835360"/>
            <a:ext cx="17524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Make it Visibl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mb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er displays- empathy, anger management, peer pressure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er Mediation program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classro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Second Step to other classrooms via medi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come familiar with website- cfchildren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ank you for watching!!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32418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eer Mediation- </a:t>
            </a:r>
            <a:br>
              <a:rPr sz="3600"/>
            </a:br>
            <a:r>
              <a:rPr b="0" i="1" lang="sv-SE" sz="3600" spc="-1" strike="noStrike">
                <a:solidFill>
                  <a:srgbClr val="ffffff"/>
                </a:solidFill>
                <a:latin typeface="Times New Roman"/>
              </a:rPr>
              <a:t>Students helping students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So many rea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Ease of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Builds comradery within group/empo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Provides communication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Students in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Let’s be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61040" y="3352680"/>
            <a:ext cx="1444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Peer Mediation- 2 componen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685440"/>
            <a:ext cx="7162920" cy="6172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st compon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Stud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conflic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56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inst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56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56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/w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s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56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be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ing body language good/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56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of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-30816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good re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5880" y="1371600"/>
            <a:ext cx="27432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4000" spc="-1" strike="noStrike">
                <a:solidFill>
                  <a:srgbClr val="ffffff"/>
                </a:solidFill>
                <a:latin typeface="Times New Roman"/>
              </a:rPr>
              <a:t>2nd componen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learn  mediation proc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 students in conflict to solve their own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/MS/HS grade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24400" y="3809880"/>
            <a:ext cx="1343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7162920" cy="762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Peer Mediation Process MS disc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197000"/>
            <a:ext cx="6934320" cy="5943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) Introdu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) Ground Rules/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) Define problem/find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) Finding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)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23080" y="3276720"/>
            <a:ext cx="1181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2285640"/>
            <a:ext cx="7162920" cy="38098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24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sv-SE" sz="2800" spc="-1" strike="noStrike">
                <a:solidFill>
                  <a:srgbClr val="ffffff"/>
                </a:solidFill>
                <a:latin typeface="Times New Roman"/>
              </a:rPr>
              <a:t>Second Step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i="1" lang="sv-S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designed to help children learn pro social skills and reduce impulsive- aggressive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ctr">
              <a:lnSpc>
                <a:spcPct val="90000"/>
              </a:lnSpc>
              <a:spcBef>
                <a:spcPts val="248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40 years of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ctr">
              <a:lnSpc>
                <a:spcPct val="90000"/>
              </a:lnSpc>
              <a:spcBef>
                <a:spcPts val="248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nternational use/trans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ctr">
              <a:lnSpc>
                <a:spcPct val="90000"/>
              </a:lnSpc>
              <a:spcBef>
                <a:spcPts val="248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Exemplary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ctr">
              <a:lnSpc>
                <a:spcPct val="90000"/>
              </a:lnSpc>
              <a:spcBef>
                <a:spcPts val="248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To reach this end, the curricula are built upon the follow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0"/>
            <a:ext cx="426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Step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earning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artevidon@yahoo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40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1. To increase children’s ability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dentify others’ feelin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take others’ perspectiv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respond empathically to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Mar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991200" y="3886200"/>
            <a:ext cx="12798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4000" spc="-1" strike="noStrike">
                <a:solidFill>
                  <a:srgbClr val="ffffff"/>
                </a:solidFill>
                <a:latin typeface="Times New Roman"/>
              </a:rPr>
              <a:t>Impulse control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2. To decrease impulsive and aggressive behavior in children throug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applying a problem-solving strateg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to social situ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practicing behavioral social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34360" y="4267080"/>
            <a:ext cx="111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4000" spc="-1" strike="noStrike">
                <a:solidFill>
                  <a:srgbClr val="ffffff"/>
                </a:solidFill>
                <a:latin typeface="Times New Roman"/>
              </a:rPr>
              <a:t>Emotion Managemen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3. To decrease angry behavior in children through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recognizing angry feel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using anger-reduction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3968640"/>
            <a:ext cx="144756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8:08:18Z</dcterms:created>
  <dc:creator>Art  Evidon</dc:creator>
  <dc:description/>
  <dc:language>en-US</dc:language>
  <cp:lastModifiedBy>Art  Evidon</cp:lastModifiedBy>
  <dcterms:modified xsi:type="dcterms:W3CDTF">2011-05-02T18:15:15Z</dcterms:modified>
  <cp:revision>15</cp:revision>
  <dc:subject/>
  <dc:title> aevidon@isl.edu.lv   </dc:title>
</cp:coreProperties>
</file>